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61B-22BB-4E1F-936E-90C19C08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32E-0981-4BE2-BE25-66EBCF06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027E1-3693-48DF-B880-174D96FA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B5288-8FED-4453-A016-9C2FC5D6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FF1F1-F381-4B3B-9F90-83A65FDB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3D468-F9B9-4666-839F-9E379A9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B3426-FA80-4929-A451-32F6869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EE86C-7F09-4D9A-8375-C102B3D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D6424-BD2A-4F7F-BA2B-99F32A02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EECD2-D3FF-4459-B99D-6B5C65FB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DA0C2-82D0-4176-A6FE-20FC3D4E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83011-1462-4DA6-B91E-D42AF4B9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773-7195-4563-8174-6CB3E258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C11CC-E8FE-43DD-B3CC-64D97916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B85A0-0DA0-45D6-BF8C-B79E5345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C524F-BDDA-451D-80BF-66F5E39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A02F9-CB2B-4E78-A441-8D36034F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1D446-3FA8-4EC7-8389-19CFC587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525AE-27D3-4519-9C37-E7674699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97C73-303B-476A-8925-23E77818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D3C2D-2747-4262-854F-69C4C544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B5BE0-1F32-4226-B1CE-85EA18C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06D20-AD1D-4B7D-8293-1176EA07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823-5161-40BC-95EE-6598992E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525FE-F8E3-473F-A5B9-9F9B720B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179A7-7D03-47CB-BA8C-07EA3ECE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C5014-CC2C-4C54-A172-7A7A4396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043A-428B-4284-A978-C4E17CE0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FE654-6E2F-47EC-B20A-92FAB71C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986E3-EBB3-415F-8614-E4C7E41D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76197-C32B-4EF8-88DC-5AC69E58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542B1-DB3D-42B9-ACE0-03795A2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D297B-74F2-4B9C-9CAC-D14A515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42E07-83E2-417B-B540-A17D2339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0AF-965C-4D7E-B19F-95C95D9E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40950-925C-4008-88AB-31D9241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F96E-03DA-4DF9-B001-2824D0F0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9CD3-88E7-4E84-83CA-01EA582E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4FAC1-DB52-480B-9F1B-17CBB768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BE99A-363D-41B4-95B7-D815C00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F2534-9579-494E-B474-2C14EE7C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725AA-79FF-420A-8A85-8B60C0D6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C31AD-0452-4747-8E13-DA592F56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F9566-9A54-4BB4-975B-78FBA2E6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6896D-A19D-4581-A76D-2DDA086D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B283-1FE9-48CE-A0DE-BFF9A43B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7E9D1-F27C-4771-B1F5-FADAAE7E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9362E-282D-47F5-BB12-9B09A0A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3621B-1043-4E10-8D0E-9E833CAE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D6CC8-1F6A-488A-8FF3-0F81FC1A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E0144-E22F-460F-BE19-F1503C17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0C89-E6D2-4DD6-A6EF-1787848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A47F-5F74-491D-B55B-CD1B7AB3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9591-6F0E-42BC-8993-D64D2521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F3C-06A2-4E46-AAAC-36A9EACD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67B9-C4C9-49F6-A0A4-49ADC1D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AEF-7E01-4D10-A4DF-D12F88D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C44-7F05-4E03-9FAE-C9F377D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4738-2E77-4D7B-8AEC-83C1909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DE4B-F839-4B58-BFD3-BA4D77F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72E6-DE18-432A-BEE8-87AEA2A7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853E-8622-486F-A78F-7B71D511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E917-45D7-47E8-8DEF-5ADB632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D75A-0E17-4646-834F-0F3DD158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EC6E3-0BD4-4F0F-B92C-4D490131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679C-FD4F-431E-867E-88F708D7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44BE-B47B-49FA-B4B7-848B33AF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16E-106C-438A-90C9-B72C4636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D7BD-AE2D-4831-9DD7-6E213870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43892-20FF-46EE-A6E4-9D4E12F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7566-9981-4666-8930-B6C2100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7834-C104-4857-8C17-AD6FA9F9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55CA-6302-4099-AC28-82F1BD0F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659E-B0DC-4600-92C9-67037B55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A893-3CB7-4984-9B10-95AF2FD7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DBE8-B739-4664-8509-24C9EF1F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AC3F-BFA9-4D09-9465-284BB50C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D833-6B10-4F92-97E0-1C826674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250-5661-4A6A-A960-0D35415E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3D87-EADB-4BF9-897F-E8B37291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93A3B-586A-4468-AD38-173DE0DC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EAE0-886C-46A7-B783-A95EA86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9DA7-320D-4413-8B7A-7108C35E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50C17-117D-4287-A3AC-50AAAE4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EAC2A-0D06-46DC-AFFE-11B9072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41BF-7657-4764-9186-02C7297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9C0B-9C71-406D-A296-8A271382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F745-8C74-4C21-8DF0-A052350F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506A0-3F3C-4EDA-94AA-0B4D38F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A9D-789A-4C6A-9D84-2A8B8DD5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7DF5-172D-45CC-85AD-58C5D40D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8E8D-5470-4882-8D5A-9142A2E9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30FD2-E67A-4D9D-97DA-FA2F2C51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5D936-F3D6-4C16-B3F5-B50EC72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5459-28BB-4845-A075-F532E823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BF23-DDAC-43BA-B39C-6C9B13BE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A088-B259-4290-BFFC-76819F9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60F2-B47C-42DE-9370-9563F816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90657-34AC-43E3-8B67-8B8A03F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BA76-AE60-4011-9691-4CED590B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093-83DF-4933-A27F-88DEBB7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C9AC-4B34-461D-AA5F-3583ABAB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D334-A4B3-4B95-BA9D-83A00337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EFC8D-06D5-48BA-A55E-13D8820C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E3877-08DE-4588-917D-20FD8564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CAF5-5DE4-49ED-BEE6-FABDBED2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4894-06EB-4285-92B5-3F1830B5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A79F6-4682-44B2-A543-B794473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2EA0-4762-4C29-82BA-4F953E2A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E39A-69DD-4513-AFC1-789AE1D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F525-1FCC-4FC1-8A07-08F7BDA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434-5A41-44A6-8055-2D01192C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B7DE-78D2-4020-A99F-A35A788B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742D-3345-4990-8341-1BA8A66E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B41B-5206-4153-824D-E93CE5F4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D865-2C47-41CC-BAA2-B3F46F8B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63FCC-9F9E-4CBA-A5C4-B4AD06F3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45F6-9F90-4C3C-A01A-A82232E2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92D9E-F0B3-42F4-BD71-0AA33093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4F8A-63FF-411E-BB35-E68190B7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EBED2-69E6-4909-B0AD-DDA5D2B9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97E7-4269-4A0E-97ED-82379D1C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E70-BF20-4B8A-BA0B-B34D0C4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697C4-1F12-4084-A31A-9CBEDECD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C576-3434-4A42-B1AA-5004889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A9821-2E4C-4634-831F-3E720396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74263-799A-4BB7-B42F-B10B0A01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267D1-385A-49ED-B59D-AC4A264D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4F59-49B9-405E-A4D6-D3372B24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73F7-072E-49F3-AF1F-63DA52C4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619E8-3F83-49D0-9A66-DC9DFDC1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72D4F-3B5C-42CB-A3D6-E1D45663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CF25B-D602-4F4A-834B-61AE4BA6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4045-1771-4A14-9AE2-6907984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90678-3018-400E-B56A-DC59487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DE656-192F-4155-BAEA-5D93F38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6B183-9D92-470E-AEA8-2DAAD8C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1D50-1491-419B-8403-0A77176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D55CE-FDC1-488F-BF6F-9119B3C4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0E062-B747-4852-AEDF-4163C63D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3790-C40D-4203-98F8-38F34507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84A5B-E93B-4736-9000-2C0CC806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E6E9F-FF3A-4395-B297-5B6146E1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7CE0D-0025-44E8-A34F-0E07A01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E0D5-07F6-470E-A838-7A0F0F9C7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F062-173D-402D-B922-DE711F591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27D-0D74-47D0-A224-2251912C9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343B-611B-40E3-A032-7CF7CB055F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E5A1-6AF4-4CC5-824C-72774C80C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BFCA-768C-4868-A435-D958C4AD8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6D39-A127-4CEB-AD7F-A7A383DA1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77FB-5253-4675-8AD6-C68E6EF90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68C5-730A-4D81-ABEF-38F37F697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ABFA-84BA-4C9E-BF80-6018AB975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C011-DC63-4531-B4BC-4279E53250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0539-DEE6-4543-AF25-E4EF0EC1E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91440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R. MCFADDEN &amp; MR. RICHARD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GLOBAL STUDIES: 2008/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04560" y="380520"/>
            <a:ext cx="5638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16349"/>
                </a:solidFill>
                <a:latin typeface="Georgia"/>
              </a:rPr>
              <a:t>A Tour of Morocco 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4" descr="mo-map.gif"/>
          <p:cNvPicPr/>
          <p:nvPr/>
        </p:nvPicPr>
        <p:blipFill>
          <a:blip r:embed="rId1"/>
          <a:stretch/>
        </p:blipFill>
        <p:spPr>
          <a:xfrm>
            <a:off x="5562720" y="685800"/>
            <a:ext cx="31334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La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d you know Morocco is slightly larger than California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25:57Z</dcterms:created>
  <dc:creator>Ryan C. McFadden</dc:creator>
  <dc:description/>
  <dc:language>en-US</dc:language>
  <cp:lastModifiedBy>Ryan C. McFadden</cp:lastModifiedBy>
  <dcterms:modified xsi:type="dcterms:W3CDTF">2009-02-18T01:20:43Z</dcterms:modified>
  <cp:revision>1</cp:revision>
  <dc:subject/>
  <dc:title>A Tour of Morocco</dc:title>
</cp:coreProperties>
</file>